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B6E4-34F7-408F-A1B5-59907637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FC5-713E-4F1E-B7D1-AB70D86D4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305A-D884-4211-9B4B-053591DEA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98D-AAD5-404B-A9B0-8032474DF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E611-1A22-4D50-A72B-4809A8F30C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16A-09CB-41B1-A840-9F7E2A15D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2DE-8DE2-4142-80CC-DE3F3C70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B13-A466-420D-8DCF-E9D283B1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25B-B68C-4DE5-9FB5-A2A059F5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6E5-0D9B-40B6-849C-C428967F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AB4-84F1-4020-9C64-6593891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336-20CC-40C2-88A6-0776EAF6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F1D-FE4D-469F-A3DD-4D8BBD28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F9C-8C30-47C4-A6CD-25A2BA7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1BD-1B84-446A-BE94-8A4FA4C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077-E6D2-4989-B483-7A73F78A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54C-A27B-4A8A-873C-C1D687B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B34-FBA8-44F0-B336-5C87361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9F24-C11F-49BB-93D2-7B01346E1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he Triangle-ope"/>
          <p:cNvPicPr/>
          <p:nvPr/>
        </p:nvPicPr>
        <p:blipFill>
          <a:blip r:embed="rId1"/>
          <a:stretch/>
        </p:blipFill>
        <p:spPr>
          <a:xfrm>
            <a:off x="152280" y="2362320"/>
            <a:ext cx="8796600" cy="1131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882520" y="59799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:  Play by the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llow the directions carefully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imal has a body shaped like a big trian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head is shaped like a bumpy circ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has long legs, and each of its feet has three toes with a claw on the end of each t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tail is very long and covered with f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body has four large spots and three smaller spo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eyes are lar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mouth is s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nose is also s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noticed two long, curved horns on the top of its hea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Triangle-ope Listening"/>
          <p:cNvPicPr/>
          <p:nvPr/>
        </p:nvPicPr>
        <p:blipFill>
          <a:blip r:embed="rId1"/>
          <a:stretch/>
        </p:blipFill>
        <p:spPr>
          <a:xfrm>
            <a:off x="228600" y="1600200"/>
            <a:ext cx="8705880" cy="456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14400" y="152280"/>
            <a:ext cx="702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r trianle-ope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2:45:44Z</dcterms:created>
  <dc:creator>Heidi</dc:creator>
  <dc:description/>
  <dc:language>en-US</dc:language>
  <cp:lastModifiedBy>Granite Schools</cp:lastModifiedBy>
  <dcterms:modified xsi:type="dcterms:W3CDTF">2011-09-28T18:52:04Z</dcterms:modified>
  <cp:revision>6</cp:revision>
  <dc:subject/>
  <dc:title>Slide 1</dc:title>
</cp:coreProperties>
</file>